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.pct" ContentType="image/x-pict"/>
  <Override PartName="/ppt/media/image4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69720" y="142200"/>
            <a:ext cx="10464840" cy="2661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269720" y="142200"/>
            <a:ext cx="10464840" cy="2661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269720" y="142200"/>
            <a:ext cx="10464840" cy="2661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269720" y="142200"/>
            <a:ext cx="10464840" cy="2661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269720" y="142200"/>
            <a:ext cx="10464840" cy="2661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269720" y="142200"/>
            <a:ext cx="10464840" cy="2661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269720" y="142200"/>
            <a:ext cx="10464840" cy="2661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269720" y="142200"/>
            <a:ext cx="10464840" cy="2661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69720" y="142200"/>
            <a:ext cx="10464840" cy="2661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69720" y="142200"/>
            <a:ext cx="10464840" cy="2661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269720" y="142200"/>
            <a:ext cx="10464840" cy="2661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269720" y="142200"/>
            <a:ext cx="10464840" cy="2661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269720" y="142200"/>
            <a:ext cx="10464840" cy="2661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269720" y="142200"/>
            <a:ext cx="10464840" cy="2661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269720" y="142200"/>
            <a:ext cx="10464840" cy="2661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269720" y="142200"/>
            <a:ext cx="10464840" cy="2661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269720" y="142200"/>
            <a:ext cx="10464840" cy="2661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269720" y="142200"/>
            <a:ext cx="10464840" cy="2661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269720" y="142200"/>
            <a:ext cx="10464840" cy="2661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69720" y="142200"/>
            <a:ext cx="10464840" cy="2661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269720" y="142200"/>
            <a:ext cx="10464840" cy="2661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269720" y="142200"/>
            <a:ext cx="10464840" cy="2661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269720" y="142200"/>
            <a:ext cx="10464840" cy="2661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269720" y="142200"/>
            <a:ext cx="10464840" cy="2661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269720" y="142200"/>
            <a:ext cx="10464840" cy="2661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269720" y="142200"/>
            <a:ext cx="10464840" cy="2661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269720" y="142200"/>
            <a:ext cx="10464840" cy="2661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269720" y="142200"/>
            <a:ext cx="10464840" cy="2661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269720" y="142200"/>
            <a:ext cx="10464840" cy="2661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269720" y="142200"/>
            <a:ext cx="10464840" cy="2661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269720" y="142200"/>
            <a:ext cx="10464840" cy="2661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269720" y="142200"/>
            <a:ext cx="10464840" cy="2661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269720" y="142200"/>
            <a:ext cx="10464840" cy="2661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269720" y="142200"/>
            <a:ext cx="10464840" cy="2661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269720" y="142200"/>
            <a:ext cx="10464840" cy="2661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269720" y="142200"/>
            <a:ext cx="10464840" cy="2661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69720" y="142200"/>
            <a:ext cx="10464840" cy="2661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269720" y="142200"/>
            <a:ext cx="10464840" cy="2661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269720" y="142200"/>
            <a:ext cx="10464840" cy="2661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269720" y="142200"/>
            <a:ext cx="10464840" cy="2661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269720" y="142200"/>
            <a:ext cx="10464840" cy="2661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269720" y="142200"/>
            <a:ext cx="10464840" cy="2661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269720" y="142200"/>
            <a:ext cx="10464840" cy="2661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269720" y="142200"/>
            <a:ext cx="10464840" cy="2661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269720" y="142200"/>
            <a:ext cx="10464840" cy="2661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269720" y="142200"/>
            <a:ext cx="10464840" cy="2661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69720" y="142200"/>
            <a:ext cx="10464840" cy="2661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269720" y="142200"/>
            <a:ext cx="10464840" cy="2661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269720" y="142200"/>
            <a:ext cx="10464840" cy="2661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269720" y="142200"/>
            <a:ext cx="10464840" cy="2661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269720" y="142200"/>
            <a:ext cx="10464840" cy="2661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269720" y="142200"/>
            <a:ext cx="10464840" cy="2661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269720" y="142200"/>
            <a:ext cx="10464840" cy="2661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5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6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269720" y="142200"/>
            <a:ext cx="10464840" cy="2661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269720" y="142200"/>
            <a:ext cx="10464840" cy="2661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69720" y="142200"/>
            <a:ext cx="10464840" cy="2661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269720" y="142200"/>
            <a:ext cx="10464840" cy="2661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269720" y="142200"/>
            <a:ext cx="10464840" cy="2661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269720" y="142200"/>
            <a:ext cx="10464840" cy="2661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269720" y="142200"/>
            <a:ext cx="10464840" cy="2661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269720" y="142200"/>
            <a:ext cx="10464840" cy="2661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269720" y="142200"/>
            <a:ext cx="10464840" cy="2661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269720" y="142200"/>
            <a:ext cx="10464840" cy="2661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269720" y="142200"/>
            <a:ext cx="10464840" cy="2661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3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4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69720" y="142200"/>
            <a:ext cx="10464840" cy="2661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69720" y="142200"/>
            <a:ext cx="10464840" cy="2661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69720" y="142200"/>
            <a:ext cx="10464840" cy="2661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69720" y="142200"/>
            <a:ext cx="10464840" cy="2661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9720" y="142200"/>
            <a:ext cx="10464840" cy="2661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69720" y="142200"/>
            <a:ext cx="10464840" cy="2661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69720" y="142200"/>
            <a:ext cx="10464840" cy="2661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69720" y="142200"/>
            <a:ext cx="10464840" cy="2661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69720" y="142200"/>
            <a:ext cx="10464840" cy="2661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69720" y="142200"/>
            <a:ext cx="10464840" cy="2661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69720" y="142200"/>
            <a:ext cx="10464840" cy="2661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69720" y="142200"/>
            <a:ext cx="10464840" cy="2661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69720" y="142200"/>
            <a:ext cx="10464840" cy="2661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69720" y="142200"/>
            <a:ext cx="10464840" cy="2661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69720" y="142200"/>
            <a:ext cx="10464840" cy="2661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69720" y="142200"/>
            <a:ext cx="10464840" cy="2661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69720" y="142200"/>
            <a:ext cx="10464840" cy="2661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69720" y="142200"/>
            <a:ext cx="10464840" cy="2661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69720" y="142200"/>
            <a:ext cx="10464840" cy="2661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69720" y="142200"/>
            <a:ext cx="10464840" cy="2661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69720" y="142200"/>
            <a:ext cx="10464840" cy="2661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69720" y="142200"/>
            <a:ext cx="10464840" cy="2661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69720" y="142200"/>
            <a:ext cx="10464840" cy="2661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69720" y="142200"/>
            <a:ext cx="10464840" cy="2661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69720" y="142200"/>
            <a:ext cx="10464840" cy="2661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69720" y="142200"/>
            <a:ext cx="10464840" cy="2661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69720" y="142200"/>
            <a:ext cx="10464840" cy="2661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69720" y="142200"/>
            <a:ext cx="10464840" cy="2661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69720" y="142200"/>
            <a:ext cx="10464840" cy="2661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69720" y="142200"/>
            <a:ext cx="10464840" cy="2661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69720" y="142200"/>
            <a:ext cx="10464840" cy="2661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69720" y="142200"/>
            <a:ext cx="10464840" cy="2661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69720" y="142200"/>
            <a:ext cx="10464840" cy="2661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69720" y="142200"/>
            <a:ext cx="10464840" cy="2661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269720" y="142200"/>
            <a:ext cx="10464840" cy="2661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69720" y="142200"/>
            <a:ext cx="10464840" cy="2661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269720" y="142200"/>
            <a:ext cx="10464840" cy="2661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69720" y="142200"/>
            <a:ext cx="10464840" cy="2661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69720" y="142200"/>
            <a:ext cx="10464840" cy="2661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269720" y="142200"/>
            <a:ext cx="10464840" cy="2661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269720" y="142200"/>
            <a:ext cx="10464840" cy="2661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69720" y="142200"/>
            <a:ext cx="10464840" cy="2661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69720" y="142200"/>
            <a:ext cx="10464840" cy="2661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269720" y="142200"/>
            <a:ext cx="10464840" cy="2661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69720" y="142200"/>
            <a:ext cx="10464840" cy="2661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269720" y="142200"/>
            <a:ext cx="10464840" cy="2661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269720" y="142200"/>
            <a:ext cx="10464840" cy="2661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269720" y="142200"/>
            <a:ext cx="10464840" cy="2661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69720" y="142200"/>
            <a:ext cx="10464840" cy="2661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269720" y="142200"/>
            <a:ext cx="10464840" cy="2661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269720" y="142200"/>
            <a:ext cx="10464840" cy="2661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269720" y="142200"/>
            <a:ext cx="10464840" cy="2661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269720" y="142200"/>
            <a:ext cx="10464840" cy="2661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269720" y="142200"/>
            <a:ext cx="10464840" cy="2661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269720" y="142200"/>
            <a:ext cx="10464840" cy="2661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269720" y="142200"/>
            <a:ext cx="10464840" cy="2661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269720" y="142200"/>
            <a:ext cx="10464840" cy="2661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69720" y="142200"/>
            <a:ext cx="10464840" cy="2661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269720" y="142200"/>
            <a:ext cx="10464840" cy="2661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269720" y="142200"/>
            <a:ext cx="10464840" cy="2661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269720" y="142200"/>
            <a:ext cx="10464840" cy="2661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269720" y="142200"/>
            <a:ext cx="10464840" cy="2661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269720" y="142200"/>
            <a:ext cx="10464840" cy="2661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269720" y="142200"/>
            <a:ext cx="10464840" cy="2661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269720" y="142200"/>
            <a:ext cx="10464840" cy="2661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269720" y="142200"/>
            <a:ext cx="10464840" cy="2661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269720" y="142200"/>
            <a:ext cx="10464840" cy="2661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69720" y="142200"/>
            <a:ext cx="10464840" cy="2661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269720" y="142200"/>
            <a:ext cx="10464840" cy="2661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269720" y="142200"/>
            <a:ext cx="10464840" cy="2661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269720" y="142200"/>
            <a:ext cx="10464840" cy="2661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269720" y="142200"/>
            <a:ext cx="10464840" cy="2661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269720" y="142200"/>
            <a:ext cx="10464840" cy="2661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269720" y="142200"/>
            <a:ext cx="10464840" cy="2661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269720" y="142200"/>
            <a:ext cx="10464840" cy="2661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269720" y="142200"/>
            <a:ext cx="10464840" cy="2661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6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69000"/>
          </a:bodyPr>
          <a:p>
            <a:pPr marL="524520" indent="-3402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831240" indent="-3402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137960" indent="-3405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444680" indent="-3402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751400" indent="-3402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751400" indent="-3402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751400" indent="-3402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8000"/>
          </a:bodyPr>
          <a:p>
            <a:pPr marL="66888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106020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451520" indent="-4345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84248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23344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23344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23344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040" y="2768400"/>
            <a:ext cx="39625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61000"/>
          </a:bodyPr>
          <a:p>
            <a:pPr marL="463680" indent="-3009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34760" indent="-3009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006200" indent="-3009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276920" indent="-3009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548360" indent="-3009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548360" indent="-3009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548360" indent="-3009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69000"/>
          </a:bodyPr>
          <a:p>
            <a:pPr marL="524520" indent="-3402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831240" indent="-3402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137960" indent="-3405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444680" indent="-3402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751400" indent="-3402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751400" indent="-3402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751400" indent="-3402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1000"/>
          </a:bodyPr>
          <a:p>
            <a:pPr marL="678600" indent="-46260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1" marL="1038960" indent="-46260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2" marL="1398960" indent="-46296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3" marL="1758960" indent="-46296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4" marL="2118960" indent="-46260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5" marL="2118960" indent="-46260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6" marL="2118960" indent="-46260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1269720" y="1270080"/>
            <a:ext cx="1046484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1000"/>
          </a:bodyPr>
          <a:p>
            <a:pPr marL="678600" indent="-4626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1" marL="1038960" indent="-4626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2" marL="1398960" indent="-46296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3" marL="1758960" indent="-46296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4" marL="2118960" indent="-4626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5" marL="2118960" indent="-4626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6" marL="2118960" indent="-4626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body"/>
          </p:nvPr>
        </p:nvSpPr>
        <p:spPr>
          <a:xfrm>
            <a:off x="635040" y="478800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7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7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635040" y="478800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7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7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218960" y="609120"/>
            <a:ext cx="10464840" cy="1473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1e8ccc"/>
                </a:solidFill>
                <a:latin typeface="Gill Sans"/>
              </a:rPr>
              <a:t>The Electoral College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26" name="" descr=""/>
          <p:cNvPicPr/>
          <p:nvPr/>
        </p:nvPicPr>
        <p:blipFill>
          <a:blip r:embed="rId1"/>
          <a:stretch/>
        </p:blipFill>
        <p:spPr>
          <a:xfrm>
            <a:off x="2362320" y="2666880"/>
            <a:ext cx="8127720" cy="609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1e8ccc"/>
                </a:solidFill>
                <a:latin typeface="Gill Sans"/>
              </a:rPr>
              <a:t>How does the electoral college influence a candidate’s campaign strategy?</a:t>
            </a:r>
            <a:endParaRPr b="0" lang="en-US" sz="4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5000"/>
          </a:bodyPr>
          <a:p>
            <a:pPr marL="844200" indent="-5425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Gill Sans"/>
              </a:rPr>
              <a:t>focus on “battleground states” where polls show the race is close</a:t>
            </a: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  <a:p>
            <a:pPr marL="844200" indent="-5425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Gill Sans"/>
              </a:rPr>
              <a:t>ignore states where polls show one candidate is very popular </a:t>
            </a: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  <a:p>
            <a:pPr marL="844200" indent="-5425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Gill Sans"/>
              </a:rPr>
              <a:t>in MOST cases less effort to woo voters in small population states</a:t>
            </a: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  <a:p>
            <a:pPr marL="844200" indent="-5425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Gill Sans"/>
              </a:rPr>
              <a:t>in SOME cases focus on larger population states</a:t>
            </a: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800" spc="-1" strike="noStrike">
                <a:solidFill>
                  <a:srgbClr val="000000"/>
                </a:solidFill>
                <a:latin typeface="Gill Sans"/>
              </a:rPr>
              <a:t>What are the key battleground states this year?</a:t>
            </a:r>
            <a:endParaRPr b="0" lang="en-US" sz="6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63" name="" descr=""/>
          <p:cNvPicPr/>
          <p:nvPr/>
        </p:nvPicPr>
        <p:blipFill>
          <a:blip r:embed="rId1"/>
          <a:stretch/>
        </p:blipFill>
        <p:spPr>
          <a:xfrm>
            <a:off x="1212840" y="2602080"/>
            <a:ext cx="10006200" cy="6021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/>
          </p:nvPr>
        </p:nvSpPr>
        <p:spPr>
          <a:xfrm>
            <a:off x="1218960" y="2031480"/>
            <a:ext cx="10464840" cy="772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8000"/>
          </a:bodyPr>
          <a:p>
            <a:pPr lvl="1" marL="115920" indent="-15120">
              <a:spcBef>
                <a:spcPts val="2401"/>
              </a:spcBef>
              <a:buClr>
                <a:srgbClr val="b01713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400" spc="-1" strike="noStrike">
                <a:solidFill>
                  <a:srgbClr val="b01713"/>
                </a:solidFill>
                <a:latin typeface="Gill Sans"/>
              </a:rPr>
              <a:t>538</a:t>
            </a:r>
            <a:r>
              <a:rPr b="0" lang="en-US" sz="7400" spc="-1" strike="noStrike">
                <a:solidFill>
                  <a:srgbClr val="14996d"/>
                </a:solidFill>
                <a:latin typeface="Gill Sans"/>
              </a:rPr>
              <a:t> </a:t>
            </a:r>
            <a:endParaRPr b="0" lang="en-US" sz="7400" spc="-1" strike="noStrike">
              <a:solidFill>
                <a:srgbClr val="000000"/>
              </a:solidFill>
              <a:latin typeface="Gill Sans"/>
            </a:endParaRPr>
          </a:p>
          <a:p>
            <a:pPr lvl="1" marL="115920" indent="0">
              <a:lnSpc>
                <a:spcPct val="5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400" spc="-1" strike="noStrike">
              <a:solidFill>
                <a:srgbClr val="000000"/>
              </a:solidFill>
              <a:latin typeface="Gill Sans"/>
            </a:endParaRPr>
          </a:p>
          <a:p>
            <a:pPr marL="737280" indent="-502560">
              <a:spcBef>
                <a:spcPts val="2401"/>
              </a:spcBef>
              <a:buClr>
                <a:srgbClr val="1e8ccc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e8ccc"/>
                </a:solidFill>
                <a:latin typeface="Gill Sans"/>
              </a:rPr>
              <a:t>How many electoral votes must a candidate get to become president (the “magic number”)?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  <a:p>
            <a:pPr lvl="1" marL="115920" indent="-15120">
              <a:spcBef>
                <a:spcPts val="2401"/>
              </a:spcBef>
              <a:buClr>
                <a:srgbClr val="333399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400" spc="-1" strike="noStrike">
                <a:solidFill>
                  <a:srgbClr val="333399"/>
                </a:solidFill>
                <a:latin typeface="Gill Sans"/>
              </a:rPr>
              <a:t>270</a:t>
            </a:r>
            <a:r>
              <a:rPr b="0" lang="en-US" sz="3800" spc="-1" strike="noStrike">
                <a:solidFill>
                  <a:srgbClr val="333399"/>
                </a:solidFill>
                <a:latin typeface="Gill Sans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  <a:p>
            <a:pPr lvl="1" marL="115920" indent="-15120">
              <a:spcBef>
                <a:spcPts val="2401"/>
              </a:spcBef>
              <a:buClr>
                <a:srgbClr val="333399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Gill Sans"/>
              </a:rPr>
              <a:t>(</a:t>
            </a:r>
            <a:r>
              <a:rPr b="1" lang="en-US" sz="3800" spc="-1" strike="noStrike">
                <a:solidFill>
                  <a:srgbClr val="333399"/>
                </a:solidFill>
                <a:latin typeface="Garamond"/>
              </a:rPr>
              <a:t>1 </a:t>
            </a:r>
            <a:r>
              <a:rPr b="0" lang="en-US" sz="3800" spc="-1" strike="noStrike">
                <a:solidFill>
                  <a:srgbClr val="333399"/>
                </a:solidFill>
                <a:latin typeface="Gill Sans"/>
              </a:rPr>
              <a:t>more than half the total… 538/2 = 269)</a:t>
            </a: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8" name=""/>
          <p:cNvSpPr/>
          <p:nvPr/>
        </p:nvSpPr>
        <p:spPr>
          <a:xfrm>
            <a:off x="1089000" y="1058760"/>
            <a:ext cx="11407680" cy="252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401"/>
              </a:spcBef>
              <a:buClr>
                <a:srgbClr val="1e8ccc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e8ccc"/>
                </a:solidFill>
                <a:latin typeface="Gill Sans"/>
                <a:ea typeface="ヒラギノ角ゴ ProN W3"/>
              </a:rPr>
              <a:t>How many total electors are there?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294920" y="-304920"/>
            <a:ext cx="10464840" cy="243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1e8ccc"/>
                </a:solidFill>
                <a:latin typeface="Gill Sans"/>
              </a:rPr>
              <a:t>How is the number of electors per state determined?</a:t>
            </a:r>
            <a:endParaRPr b="0" lang="en-US" sz="6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533520" y="1904760"/>
            <a:ext cx="12191760" cy="96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8000"/>
          </a:bodyPr>
          <a:p>
            <a:pPr marL="737280" indent="-50256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Arial"/>
              <a:buChar char="•"/>
              <a:tabLst>
                <a:tab algn="l" pos="905040"/>
                <a:tab algn="l" pos="1085760"/>
                <a:tab algn="l" pos="1266840"/>
                <a:tab algn="l" pos="1447920"/>
                <a:tab algn="l" pos="1628640"/>
                <a:tab algn="l" pos="1809720"/>
                <a:tab algn="l" pos="1990800"/>
                <a:tab algn="l" pos="2171880"/>
                <a:tab algn="l" pos="2352600"/>
                <a:tab algn="l" pos="2533680"/>
                <a:tab algn="l" pos="2714760"/>
                <a:tab algn="l" pos="2895480"/>
                <a:tab algn="l" pos="3076560"/>
                <a:tab algn="l" pos="3257640"/>
                <a:tab algn="l" pos="3438360"/>
                <a:tab algn="l" pos="3619440"/>
                <a:tab algn="l" pos="3800520"/>
                <a:tab algn="l" pos="3981600"/>
                <a:tab algn="l" pos="4162320"/>
                <a:tab algn="l" pos="4343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o find out how many electoral vote each state has, add the number of Representatives (Congressional Districts) in each state + number of Senators = electoral vote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31" name="" descr=""/>
          <p:cNvPicPr/>
          <p:nvPr/>
        </p:nvPicPr>
        <p:blipFill>
          <a:blip r:embed="rId1"/>
          <a:stretch/>
        </p:blipFill>
        <p:spPr>
          <a:xfrm>
            <a:off x="304920" y="3429000"/>
            <a:ext cx="6084720" cy="4648320"/>
          </a:xfrm>
          <a:prstGeom prst="rect">
            <a:avLst/>
          </a:prstGeom>
          <a:ln w="0">
            <a:noFill/>
          </a:ln>
        </p:spPr>
      </p:pic>
      <p:pic>
        <p:nvPicPr>
          <p:cNvPr id="532" name="" descr=""/>
          <p:cNvPicPr/>
          <p:nvPr/>
        </p:nvPicPr>
        <p:blipFill>
          <a:blip r:embed="rId2"/>
          <a:stretch/>
        </p:blipFill>
        <p:spPr>
          <a:xfrm>
            <a:off x="8037360" y="2743200"/>
            <a:ext cx="4967280" cy="5257800"/>
          </a:xfrm>
          <a:prstGeom prst="rect">
            <a:avLst/>
          </a:prstGeom>
          <a:ln w="0">
            <a:noFill/>
          </a:ln>
        </p:spPr>
      </p:pic>
      <p:sp>
        <p:nvSpPr>
          <p:cNvPr id="533" name=""/>
          <p:cNvSpPr/>
          <p:nvPr/>
        </p:nvSpPr>
        <p:spPr>
          <a:xfrm>
            <a:off x="228600" y="8077320"/>
            <a:ext cx="6095880" cy="18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ill Sans"/>
                <a:ea typeface="ヒラギノ角ゴ ProN W3"/>
              </a:rPr>
              <a:t>A map of Maine’s Congressional districts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ヒラギノ角ゴ ProN W3"/>
              </a:rPr>
              <a:t>2 House of Rep. seats + 2 Senate seats =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ヒラギノ角ゴ ProN W3"/>
              </a:rPr>
              <a:t> 4 electoral votes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4" name=""/>
          <p:cNvSpPr/>
          <p:nvPr/>
        </p:nvSpPr>
        <p:spPr>
          <a:xfrm>
            <a:off x="6350040" y="7772400"/>
            <a:ext cx="6908760" cy="21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ill Sans"/>
                <a:ea typeface="ヒラギノ角ゴ ProN W3"/>
              </a:rPr>
              <a:t>A map of California’s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Gill Sans"/>
                <a:ea typeface="ヒラギノ角ゴ ProN W3"/>
              </a:rPr>
              <a:t>Congressional districts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1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ヒラギノ角ゴ ProN W3"/>
              </a:rPr>
              <a:t>53 House of Rep. seats + 2 Senate seats =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ヒラギノ角ゴ ProN W3"/>
              </a:rPr>
              <a:t>55 electoral votes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300" spc="-1" strike="noStrike">
                <a:solidFill>
                  <a:srgbClr val="1e8ccc"/>
                </a:solidFill>
                <a:latin typeface="Gill Sans"/>
              </a:rPr>
              <a:t>What is the smallest number of electors a state could have?</a:t>
            </a:r>
            <a:endParaRPr b="0" lang="en-US" sz="63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36" name="" descr=""/>
          <p:cNvPicPr/>
          <p:nvPr/>
        </p:nvPicPr>
        <p:blipFill>
          <a:blip r:embed="rId1"/>
          <a:stretch/>
        </p:blipFill>
        <p:spPr>
          <a:xfrm>
            <a:off x="1371600" y="3200400"/>
            <a:ext cx="8001000" cy="5499000"/>
          </a:xfrm>
          <a:prstGeom prst="rect">
            <a:avLst/>
          </a:prstGeom>
          <a:ln w="0">
            <a:noFill/>
          </a:ln>
        </p:spPr>
      </p:pic>
      <p:sp>
        <p:nvSpPr>
          <p:cNvPr id="537" name=""/>
          <p:cNvSpPr/>
          <p:nvPr/>
        </p:nvSpPr>
        <p:spPr>
          <a:xfrm>
            <a:off x="10058400" y="2819520"/>
            <a:ext cx="1600200" cy="15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800" spc="-1" strike="noStrike">
                <a:solidFill>
                  <a:srgbClr val="000000"/>
                </a:solidFill>
                <a:latin typeface="Gill Sans"/>
                <a:ea typeface="ヒラギノ角ゴ ProN W3"/>
              </a:rPr>
              <a:t>3</a:t>
            </a:r>
            <a:endParaRPr b="0" lang="en-US" sz="9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1e8ccc"/>
                </a:solidFill>
                <a:latin typeface="Gill Sans"/>
              </a:rPr>
              <a:t>How does the popular vote in each state influence that state’s electoral vote?</a:t>
            </a:r>
            <a:endParaRPr b="0" lang="en-US" sz="4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09480" y="2666520"/>
            <a:ext cx="11963520" cy="1460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0880" indent="18684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Gill Sans"/>
              </a:rPr>
              <a:t>In 48 states, whichever candidate wins the popular vote in the state wins </a:t>
            </a:r>
            <a:r>
              <a:rPr b="0" lang="en-US" sz="3800" spc="-1" strike="noStrike">
                <a:solidFill>
                  <a:srgbClr val="1e8ccc"/>
                </a:solidFill>
                <a:latin typeface="Gill Sans"/>
              </a:rPr>
              <a:t>ALL</a:t>
            </a:r>
            <a:r>
              <a:rPr b="0" lang="en-US" sz="3800" spc="-1" strike="noStrike">
                <a:solidFill>
                  <a:srgbClr val="000000"/>
                </a:solidFill>
                <a:latin typeface="Gill Sans"/>
              </a:rPr>
              <a:t> of the state’s electoral votes.</a:t>
            </a: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40" name="" descr=""/>
          <p:cNvPicPr/>
          <p:nvPr/>
        </p:nvPicPr>
        <p:blipFill>
          <a:blip r:embed="rId1"/>
          <a:stretch/>
        </p:blipFill>
        <p:spPr>
          <a:xfrm>
            <a:off x="1295280" y="5029200"/>
            <a:ext cx="10072800" cy="1892160"/>
          </a:xfrm>
          <a:prstGeom prst="rect">
            <a:avLst/>
          </a:prstGeom>
          <a:ln w="0">
            <a:noFill/>
          </a:ln>
        </p:spPr>
      </p:pic>
      <p:sp>
        <p:nvSpPr>
          <p:cNvPr id="541" name=""/>
          <p:cNvSpPr/>
          <p:nvPr/>
        </p:nvSpPr>
        <p:spPr>
          <a:xfrm>
            <a:off x="660240" y="7162920"/>
            <a:ext cx="1191276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rmAutofit fontScale="85000"/>
          </a:bodyPr>
          <a:p>
            <a:pPr>
              <a:spcBef>
                <a:spcPts val="2401"/>
              </a:spcBef>
              <a:tabLst>
                <a:tab algn="l" pos="0"/>
                <a:tab algn="l" pos="453960"/>
                <a:tab algn="l" pos="907920"/>
                <a:tab algn="l" pos="1362240"/>
                <a:tab algn="l" pos="1816200"/>
                <a:tab algn="l" pos="2270160"/>
                <a:tab algn="l" pos="2724120"/>
                <a:tab algn="l" pos="3178080"/>
                <a:tab algn="l" pos="3632040"/>
                <a:tab algn="l" pos="4086360"/>
                <a:tab algn="l" pos="4540320"/>
                <a:tab algn="l" pos="4994280"/>
                <a:tab algn="l" pos="5448240"/>
                <a:tab algn="l" pos="5902200"/>
                <a:tab algn="l" pos="6356520"/>
                <a:tab algn="l" pos="6810480"/>
                <a:tab algn="l" pos="7264440"/>
                <a:tab algn="l" pos="7718400"/>
                <a:tab algn="l" pos="8172360"/>
                <a:tab algn="l" pos="8626320"/>
                <a:tab algn="l" pos="90806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  <a:ea typeface="ヒラギノ角ゴ ProN W3"/>
              </a:rPr>
              <a:t>This image shows that in the 2004 election, George Bush, the Republican candidate, won the majority of the popular vote in Nevada and got all 5 electoral votes from that state (names of electors in </a:t>
            </a:r>
            <a:r>
              <a:rPr b="0" lang="en-US" sz="2600" spc="-1" strike="noStrike">
                <a:solidFill>
                  <a:srgbClr val="d9798e"/>
                </a:solidFill>
                <a:latin typeface="Gill Sans"/>
                <a:ea typeface="ヒラギノ角ゴ ProN W3"/>
              </a:rPr>
              <a:t>pink</a:t>
            </a:r>
            <a:r>
              <a:rPr b="0" lang="en-US" sz="2600" spc="-1" strike="noStrike">
                <a:solidFill>
                  <a:srgbClr val="000000"/>
                </a:solidFill>
                <a:latin typeface="Gill Sans"/>
                <a:ea typeface="ヒラギノ角ゴ ProN W3"/>
              </a:rPr>
              <a:t>). In contrast, John Kerry, the Democratic candidate, won the majority of votes in New Hampshire and got all 4 of that state’s electoral votes (names of electors in </a:t>
            </a:r>
            <a:r>
              <a:rPr b="0" lang="en-US" sz="2600" spc="-1" strike="noStrike">
                <a:solidFill>
                  <a:srgbClr val="869fe3"/>
                </a:solidFill>
                <a:latin typeface="Gill Sans"/>
                <a:ea typeface="ヒラギノ角ゴ ProN W3"/>
              </a:rPr>
              <a:t>blue</a:t>
            </a:r>
            <a:r>
              <a:rPr b="0" lang="en-US" sz="2600" spc="-1" strike="noStrike">
                <a:solidFill>
                  <a:srgbClr val="000000"/>
                </a:solidFill>
                <a:latin typeface="Gill Sans"/>
                <a:ea typeface="ヒラギノ角ゴ ProN W3"/>
              </a:rPr>
              <a:t>).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2" name=""/>
          <p:cNvSpPr/>
          <p:nvPr/>
        </p:nvSpPr>
        <p:spPr>
          <a:xfrm>
            <a:off x="2819520" y="4876920"/>
            <a:ext cx="24382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3" name=""/>
          <p:cNvSpPr/>
          <p:nvPr/>
        </p:nvSpPr>
        <p:spPr>
          <a:xfrm>
            <a:off x="3068280" y="4495680"/>
            <a:ext cx="261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  <a:ea typeface="ヒラギノ角ゴ ProN W3"/>
              </a:rPr>
              <a:t>Republican candidate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  <a:ea typeface="ヒラギノ角ゴ ProN W3"/>
              </a:rPr>
              <a:t>George Bush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4" name=""/>
          <p:cNvSpPr/>
          <p:nvPr/>
        </p:nvSpPr>
        <p:spPr>
          <a:xfrm>
            <a:off x="5366160" y="4495680"/>
            <a:ext cx="261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  <a:ea typeface="ヒラギノ角ゴ ProN W3"/>
              </a:rPr>
              <a:t>Democratic candidate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  <a:ea typeface="ヒラギノ角ゴ ProN W3"/>
              </a:rPr>
              <a:t>John Kerry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5" name=""/>
          <p:cNvSpPr/>
          <p:nvPr/>
        </p:nvSpPr>
        <p:spPr>
          <a:xfrm>
            <a:off x="7764120" y="4495680"/>
            <a:ext cx="286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  <a:ea typeface="ヒラギノ角ゴ ProN W3"/>
              </a:rPr>
              <a:t>Third Party Candidates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6" name=""/>
          <p:cNvSpPr/>
          <p:nvPr/>
        </p:nvSpPr>
        <p:spPr>
          <a:xfrm>
            <a:off x="10173960" y="6934320"/>
            <a:ext cx="18266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Gill Sans"/>
              </a:rPr>
              <a:t>http://presidentelect.org/e2004.html</a:t>
            </a:r>
            <a:endParaRPr b="0" lang="en-US" sz="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6820200" cy="2235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e8ccc"/>
                </a:solidFill>
                <a:latin typeface="Gill Sans"/>
              </a:rPr>
              <a:t>Which 2 states don’t use the winner-take-all system?</a:t>
            </a: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 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6840" y="2438280"/>
            <a:ext cx="6273720" cy="626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5000"/>
          </a:bodyPr>
          <a:p>
            <a:pPr marL="755280" indent="-48528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Gill Sans"/>
              </a:rPr>
              <a:t>Maine &amp; Nebraska</a:t>
            </a: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  <a:p>
            <a:pPr marL="755280" indent="-48528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Gill Sans"/>
              </a:rPr>
              <a:t>Maine and Nebraska use the District Method: 2 electoral votes go to the candidate who wins the most votes overall in the state, and the other electoral votes go to whichever candidate wins each congressional district</a:t>
            </a: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49" name="" descr=""/>
          <p:cNvPicPr/>
          <p:nvPr/>
        </p:nvPicPr>
        <p:blipFill>
          <a:blip r:embed="rId1"/>
          <a:stretch/>
        </p:blipFill>
        <p:spPr>
          <a:xfrm>
            <a:off x="7391520" y="5430960"/>
            <a:ext cx="5448240" cy="4170240"/>
          </a:xfrm>
          <a:prstGeom prst="rect">
            <a:avLst/>
          </a:prstGeom>
          <a:ln w="0">
            <a:noFill/>
          </a:ln>
        </p:spPr>
      </p:pic>
      <p:pic>
        <p:nvPicPr>
          <p:cNvPr id="550" name="" descr=""/>
          <p:cNvPicPr/>
          <p:nvPr/>
        </p:nvPicPr>
        <p:blipFill>
          <a:blip r:embed="rId2"/>
          <a:stretch/>
        </p:blipFill>
        <p:spPr>
          <a:xfrm>
            <a:off x="7427880" y="876240"/>
            <a:ext cx="5384880" cy="4114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1e8ccc"/>
                </a:solidFill>
                <a:latin typeface="Gill Sans"/>
              </a:rPr>
              <a:t>Arguments for the electoral college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1269720" y="3288960"/>
            <a:ext cx="10464840" cy="5194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marL="719640" indent="-46260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encourages a 2-party system which builds political stability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marL="719640" indent="-46260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candidates must get support from a variety of different regions to win enough electoral votes - builds unity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marL="719640" indent="-46260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Voters in small states matter - candidates don’t just pay attention to large state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1e8ccc"/>
                </a:solidFill>
                <a:latin typeface="Gill Sans"/>
              </a:rPr>
              <a:t>Arguments against the electoral college</a:t>
            </a:r>
            <a:endParaRPr b="0" lang="en-US" sz="7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609480" y="2768760"/>
            <a:ext cx="111254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5000"/>
          </a:bodyPr>
          <a:p>
            <a:pPr marL="666360" indent="-42840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It diminishes the principle of one person, one vote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marL="666360" indent="-42840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In states where one candidate is very popular, voters may feel like there is little reason to vote- the outcome will not change 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marL="666360" indent="-42840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a candidate could win the popular vote nationwide but lose the electoral vote.  In that case the candidate who won more people’s votes does not become president.  This has happened 3 times in U.S. history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1e8ccc"/>
                </a:solidFill>
                <a:latin typeface="Gill Sans"/>
              </a:rPr>
              <a:t>Suggested Reforms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380520" y="2768400"/>
            <a:ext cx="5931000" cy="6413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1000"/>
          </a:bodyPr>
          <a:p>
            <a:pPr marL="808560" indent="-519840">
              <a:spcBef>
                <a:spcPts val="2401"/>
              </a:spcBef>
              <a:buClr>
                <a:srgbClr val="1e8ccc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e8ccc"/>
                </a:solidFill>
                <a:latin typeface="Gill Sans"/>
              </a:rPr>
              <a:t>Reform Idea #1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  <a:p>
            <a:pPr marL="808560" indent="-519840">
              <a:lnSpc>
                <a:spcPct val="8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ill Sans"/>
              </a:rPr>
              <a:t>•  </a:t>
            </a:r>
            <a:r>
              <a:rPr b="0" lang="en-US" sz="4000" spc="-1" strike="noStrike">
                <a:solidFill>
                  <a:srgbClr val="000000"/>
                </a:solidFill>
                <a:latin typeface="Gill Sans"/>
              </a:rPr>
              <a:t>abolish the electoral college and use the nationwide popular vote instead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  <a:p>
            <a:pPr marL="808560" indent="-519840">
              <a:lnSpc>
                <a:spcPct val="70000"/>
              </a:lnSpc>
              <a:spcBef>
                <a:spcPts val="2401"/>
              </a:spcBef>
              <a:buClr>
                <a:srgbClr val="1e8ccc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e8ccc"/>
                </a:solidFill>
                <a:latin typeface="Gill Sans"/>
              </a:rPr>
              <a:t>Reform Idea #2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  <a:p>
            <a:pPr marL="808560" indent="-519840">
              <a:lnSpc>
                <a:spcPct val="7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ill Sans"/>
              </a:rPr>
              <a:t>•  </a:t>
            </a:r>
            <a:r>
              <a:rPr b="0" lang="en-US" sz="4000" spc="-1" strike="noStrike">
                <a:solidFill>
                  <a:srgbClr val="000000"/>
                </a:solidFill>
                <a:latin typeface="Gill Sans"/>
              </a:rPr>
              <a:t>have every state use the District Method (like Maine and Nebraska)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1"/>
          <a:stretch/>
        </p:blipFill>
        <p:spPr>
          <a:xfrm>
            <a:off x="6934320" y="2362320"/>
            <a:ext cx="4724280" cy="501948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6705720" y="7559640"/>
            <a:ext cx="54864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e8ccc"/>
                </a:solidFill>
                <a:latin typeface="Gill Sans"/>
                <a:ea typeface="ヒラギノ角ゴ ProN W3"/>
              </a:rPr>
              <a:t>California uses the winner take all system, so John Kerry won all 55 electoral votes in the 2004 election. If California had adopted Reform Idea #2, how many electoral college votes would John Kerry have won? </a:t>
            </a:r>
            <a:br>
              <a:rPr sz="2200"/>
            </a:br>
            <a:r>
              <a:rPr b="0" lang="en-US" sz="2200" spc="-1" strike="noStrike">
                <a:solidFill>
                  <a:srgbClr val="1e8ccc"/>
                </a:solidFill>
                <a:latin typeface="Gill Sans"/>
                <a:ea typeface="ヒラギノ角ゴ ProN W3"/>
              </a:rPr>
              <a:t>George Bush? 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YHS Teacher</cp:lastModifiedBy>
  <dcterms:modified xsi:type="dcterms:W3CDTF">2008-10-17T13:17:19Z</dcterms:modified>
  <cp:revision>26</cp:revision>
  <dc:subject/>
  <dc:title>The Electoral College</dc:title>
</cp:coreProperties>
</file>